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377-68F3-478F-A7E7-D48DD1F4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52E-D2CB-470D-B93F-6357EC3E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B7A-BF80-42EA-BB75-248204D7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2F2-F33F-4745-894B-78C3BDB5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1AC5-4497-4D1E-B068-3CA41D34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27D7-C0BE-492A-BC4D-8E4880D2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3A95-966A-4415-BC10-B441684A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1135-3E27-4116-AFE7-221E5DD4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4167-61FE-44F5-B16A-A3B5653F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33EA-75D1-4AA8-BBE6-75E7DC25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980C-383C-4814-B28E-7C780719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451-C1D5-4CE6-98FA-6D6111A3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57D0-1879-4881-9383-347ED2E7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7939-8F6E-4E3B-ADEE-5112D273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8A82-2420-41D1-B3F5-46FD7B46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B3A6-2224-4290-91D8-D7F91195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3B3E-331B-4235-BBD9-F0845EF4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925BD-A5AE-4B39-8FEE-A654F4E3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D96BA-6C8C-4BC4-8508-D6BEEE62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AB67B-2767-4DEB-A753-C1D6F67A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40AD3-59CB-4E6E-94B3-8343442A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352AF-6767-462E-8603-5243524D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FFB-82EE-4217-A56D-F72382DB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A6905-8E9B-4470-89E4-A4AD2681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D5966-1F58-4E1C-8FB5-9CCF5227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B5E5F-1504-4540-8F0B-9C708646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41688-0C4A-4D80-9267-8DB8F089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45005-0904-432B-97A6-59F3B4D3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19BA1-74BD-4ED6-AAA0-FBAEA43E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A813F-E470-4FF6-AED4-83A9F245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DA8AA-864A-4A0D-B306-9883B938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E9536-6FC8-4D80-83DE-7FEA05D6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25493-277B-436A-9FCE-ACA010D2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514-208F-4039-9F0C-20070873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53013-A735-475A-BC58-2855DEE7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C79B1-7BAC-444D-802D-22D26105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46E05-C9F2-437D-9E76-43FD5697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A3A75-43B7-46FF-AFEC-CCE06061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843A3-9854-49DE-B7B9-0283040D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67CE0-B182-4421-B651-DECD7A85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072A5-7091-4EA0-AEB3-E453AF0F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1EE77-6E1F-4053-959E-F1F42535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ADD3E-14F3-40A5-B101-C9421A13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B0D94-A772-46C6-BDAD-A03C4F7D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524-B3E6-4881-B728-923462E6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A7FE1-83F9-4FF5-BC72-10926DFB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029BA-556F-4840-997D-47089AEC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91A1B-81DA-4D2E-845D-D4FACFE3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01CF6-A8FF-47B6-AC1C-9A3FAB9E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D4E21-ECBC-4063-8895-95C317C4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E1AC7-02CA-42B7-AC13-DCD08534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174D1-D87C-497E-969F-CCE05461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3DD39-667C-47BF-9C69-375A7C1E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4C538-EA23-4626-9317-CABB0756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3E6E3-8930-476C-AD0F-E5952A3D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0BA-0AF3-4362-831B-7F36B705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2E388-7B1B-413B-AE06-5E342D55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B5DE6-7E4F-4EE6-BF4D-553A3480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B4883-CBA8-4232-A08F-C9AB0ACD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4EF11-1AFC-409C-9264-E3FF824F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AB156-44D2-4011-9EF5-AEC49BA3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CEB7E-0912-4115-BF0A-FFC884E9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894DA-37E7-416B-9E16-BE4C5F95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FB0F2-342F-4699-B676-89BA81D1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07C5C-3FFD-422D-9994-63E3170C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D2329-28D5-4FED-8DC1-D95864EC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561-CF73-4BFD-B788-D281A575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BBC08-4E34-4DC6-B364-803E33BA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2E0FB-2FAA-4B0B-B30F-913894D0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9196-63D5-41CB-A3B0-C748B933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AA7C5-7415-4FF0-88A3-E19DE79A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70281D-DD4D-47D3-B0FD-47A31EA5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0AD8C-A828-48E9-BE79-012A4593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25387-7134-413E-AF79-DEC3E428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0EADF-EE6A-4650-9315-1D9B3BF6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232E1-A3C1-4206-85FB-8429A12E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95E5A-A01C-4C67-9A38-C35EBE5A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139-095A-4771-AC57-C41ECF20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E2B73-AF41-4453-85AC-872995D4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73A01-E048-417F-814E-8F00DB15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A33C1-041B-4182-A5A7-20C8B80C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07689-864A-4C12-A556-65224A5D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B0010-5176-4246-93E6-672389AD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87E15-155B-4837-879F-B67B1F67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32100-45F6-46FC-B93A-BB13AC12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0BB48-DB33-4000-B916-BEC8046D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475A0-A418-4C3D-A08E-9C044349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D8022-6D64-43E1-B5BB-7E5FC9FE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255-09F3-431B-8F06-975DF2EA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559B5-3941-49E1-8DB1-8CAB779C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10A4-E02B-4748-B53C-67F8D58E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A2086-8AF7-4934-BCCE-68FDA543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2F07D-EC09-4C8B-B743-C8519B21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85A54-71FC-41B4-BB64-D8E8FF12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61C91-DFB9-4A27-AB1B-16785269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D3A6F-B7B4-441B-A087-08F22567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CD79-7853-4785-A637-71C4998C0A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0E80-CFED-44A1-B035-21F0391A80FB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B1B2-8D61-4363-8698-909EB2BA5CF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FC76-3CD9-4A16-A5BF-D3C68C86AD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431A-7BE1-448F-9394-1E92029D07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374E-CBE1-4F38-A160-6C673B094C1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C8B6-1176-46AE-96E6-5FCB6CAD932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F52A-A030-4951-9378-7F4C048DC5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28800" y="1285560"/>
            <a:ext cx="76197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dc3"/>
                </a:solidFill>
                <a:latin typeface="Tw Cen MT"/>
              </a:rPr>
              <a:t>ALTERACIONES DE LA CONSCIENCIA</a:t>
            </a:r>
            <a:endParaRPr b="0" lang="en-US" sz="6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6) CONVULS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racción involuntaria y violenta de los músculos, que puede afectar a uno o varios grupos muscular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 crisis convulsiva comienza con una pérdida brusca de conocimiento y la caída de la víctima al suel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usas: epilepsia, rabia, tétanos, histeria, traumatismos en el cráneo, alcoholismo, intoxicaciones, fiebre alta (40-41º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6) CONVULS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599840"/>
            <a:ext cx="81532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ÑA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tracción muscular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rdedura de lengua y salida de espuma por la boc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alida espontánea de orina, materia fecal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falta de control de esfíntere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ritos, inconscienci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uede haber fracturas si la contracción es sever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 ceder la convulsión y recuperar la consciencia, la víctima se queja de dolor de cabeza, dolor muscular, fatiga y no recuerda nad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6) CONVULSIO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TAMI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umbar al herido. Evitar que se desplome,  ayudarle a caer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 sujetarle mientras la crisi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ara evitar que se lesione, retirar objetos cercano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vitar que se muerda la lengua (cinturón, ropa…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sperar a que la crisis desaparezca, tranquilizar a la víctima, familia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locarle en PLS y trasladars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7) INSOLACIÓ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Causa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exposición larga al sol con una gran pérdida de líquid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íntoma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cefáleas, nauseas, vómitos, mareos, dolor muscular, sed, debilidad, ansiedad, agitación, incoordinación muscular, delirios, Tª &lt; de 39º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 función mental se conserv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TRATAMI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aciente en reposo, tumbado hacia arriba y lugar fresc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ar líquidos con sal si el paciente está conscien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8) GOLPE DE CA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ª por encima de los 40º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 el trastorno persiste se puede producir secuelas permanentes o la muert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w Cen MT"/>
              </a:rPr>
              <a:t>Síntomas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: piel caliente, enrojecida y seca (no se suda), taquicardia, hipotensión, respiración débil, vómitos, diarreas, agitación, confusión, delirio, convulsiones y puede llegar al coma o la muert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8) GOLPE DE CA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TAMI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sladarse a un lugar fresc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Quitarle la ropa al pacien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nfriamiento rápido, enérgico e inmediato: rociar con hielo, agua fresca o cualquier líquido disponible, colocar bolsas de hielo en axilas, ingles y cuello, cubrilo con toallas o sábanas húmeda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nfriamiento hasta que la Tª llegue a los 39º para evitar la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hipotermia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9) LA MUER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s un paro irreversible de las funciones cardio-respiratorias y cerebra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+ de 5’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→ daño cerebral irreversib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El socorrista nunca puede diagnosticar la muer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75f55"/>
                </a:solidFill>
                <a:latin typeface="Tw Cen MT"/>
              </a:rPr>
              <a:t>INTOXICACIONES POR DROGAS O ALCOHOL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840" y="164304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ES" sz="3000" spc="-1" strike="noStrike" u="sng">
                <a:solidFill>
                  <a:srgbClr val="000000"/>
                </a:solidFill>
                <a:uFillTx/>
                <a:latin typeface="Tw Cen MT"/>
              </a:rPr>
              <a:t>Síntomas que hacen sospechar su consumo</a:t>
            </a:r>
            <a:r>
              <a:rPr b="0" lang="es-ES" sz="30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Indicios claros</a:t>
            </a:r>
            <a:r>
              <a:rPr b="0" lang="es-ES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de que el paciente ha consumido algún tipo de estupefaciente: jeringuillas, botes de medicamentos, botellas, ..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Comportamiento anormal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Pérdida de conocimiento, mareo o excitación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Respiración difícil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Sudoración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75f55"/>
                </a:solidFill>
                <a:latin typeface="Tw Cen MT"/>
              </a:rPr>
              <a:t>INTOXICACIONES POR DROGAS O ALCOHOL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71320" y="2057400"/>
            <a:ext cx="8343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ES" sz="2900" spc="-1" strike="noStrike" u="sng">
                <a:solidFill>
                  <a:srgbClr val="000000"/>
                </a:solidFill>
                <a:uFillTx/>
                <a:latin typeface="Tw Cen MT"/>
              </a:rPr>
              <a:t>Síntomas que hacen sospechar su consumo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Pupilas excesivamente dilatadas o contraída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Dolores abdominal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Convulsion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  <a:ea typeface="Times New Roman"/>
              </a:rPr>
              <a:t>Et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75f55"/>
                </a:solidFill>
                <a:latin typeface="Tw Cen MT"/>
              </a:rPr>
              <a:t>INTOXICACIONES POR DROGAS O ALCOHOL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ES" sz="3000" spc="-1" strike="noStrike" u="sng">
                <a:solidFill>
                  <a:srgbClr val="000000"/>
                </a:solidFill>
                <a:uFillTx/>
                <a:latin typeface="Tw Cen MT"/>
              </a:rPr>
              <a:t>TRATAMIENTO</a:t>
            </a:r>
            <a:r>
              <a:rPr b="0" lang="es-ES" sz="30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1" lang="es-ES" sz="3000" spc="-1" strike="noStrike">
                <a:solidFill>
                  <a:srgbClr val="000000"/>
                </a:solidFill>
                <a:latin typeface="Tw Cen MT"/>
              </a:rPr>
              <a:t>Paciente inconsciente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w Cen MT"/>
              </a:rPr>
              <a:t>ABC y control de las constantes</a:t>
            </a:r>
            <a:r>
              <a:rPr b="0" lang="es-ES" sz="3000" spc="-1" strike="noStrike">
                <a:solidFill>
                  <a:srgbClr val="000000"/>
                </a:solidFill>
                <a:latin typeface="Tw Cen MT"/>
              </a:rPr>
              <a:t>, haciendo hincapié en la permeabilidad de vía aérea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w Cen MT"/>
              </a:rPr>
              <a:t>Posición lateral de seguridad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Avise a un servicio de urgencias.</a:t>
            </a:r>
            <a:r>
              <a:rPr b="0" lang="es-ES" sz="3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Trate de recabar la mayor cantidad posible de </a:t>
            </a:r>
            <a:r>
              <a:rPr b="1" lang="es-ES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datos sobre el tipo de droga</a:t>
            </a:r>
            <a:r>
              <a:rPr b="0" lang="es-ES" sz="3000" spc="-1" strike="noStrike">
                <a:solidFill>
                  <a:srgbClr val="000000"/>
                </a:solidFill>
                <a:latin typeface="Tw Cen MT"/>
                <a:ea typeface="Times New Roman"/>
              </a:rPr>
              <a:t> (preguntar amigos...)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LTERACIONES DE LA CONSCIENCI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 consciencia es aquel estado en el que el individuo se da cuenta de sí mismo y del medio que le rode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 consciencia normal implica la capacidad para percibir y reaccionar adecuadamente a lo percibido (responder a estímulos)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ausas que pueden alterar la consciencia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umatismo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oxicaciones (alcohol, drogas…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teraciones metabólicas (diabetes…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teraciones neurológicas (epilepsia…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75f55"/>
                </a:solidFill>
                <a:latin typeface="Tw Cen MT"/>
              </a:rPr>
              <a:t>INTOXICACIONES POR DROGAS O ALCOHOL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Tw Cen MT"/>
              </a:rPr>
              <a:t>TRATAMIENTO</a:t>
            </a:r>
            <a:r>
              <a:rPr b="0" lang="es-ES" sz="26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1" lang="es-ES" sz="2600" spc="-1" strike="noStrike">
                <a:solidFill>
                  <a:srgbClr val="000000"/>
                </a:solidFill>
                <a:latin typeface="Tw Cen MT"/>
              </a:rPr>
              <a:t>Paciente conscien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Háblele y trate de ganar su confianza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, cosa especialmente importante en una persona agitada, presa del pánico, o simplemente alucinada.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Cuidados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en caso de que presente alguna lesión o signos de lesió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No trate de inmovilizarlo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, a menos que sea absolutamente necesario. En ocasiones, una persona agresiva puede llegar a ser controlada si usted es dueño de sus propias emocione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Llame a los servicios de urgenci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Trate de recabar la mayor cantidad posible de </a:t>
            </a:r>
            <a:r>
              <a:rPr b="1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datos sobre el tipo de droga</a:t>
            </a:r>
            <a:r>
              <a:rPr b="0" lang="es-ES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(preguntar amigos...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75f55"/>
                </a:solidFill>
                <a:latin typeface="Tw Cen MT"/>
              </a:rPr>
              <a:t>RECUER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00040" y="2000160"/>
            <a:ext cx="8229600" cy="2857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Tw Cen MT"/>
                <a:ea typeface="Times New Roman"/>
              </a:rPr>
              <a:t>Su misión es atender y no juzgar al paciente. No permita que sus emociones personales afecten a su comportamiento, y actúe como lo haría con cualquier otra persona necesita de ayuda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75f55"/>
                </a:solidFill>
                <a:latin typeface="Tw Cen MT"/>
              </a:rPr>
              <a:t>DROGAS MÁS COMU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214200" y="1500120"/>
            <a:ext cx="8732880" cy="4857840"/>
            <a:chOff x="214200" y="1500120"/>
            <a:chExt cx="8732880" cy="4857840"/>
          </a:xfrm>
        </p:grpSpPr>
        <p:grpSp>
          <p:nvGrpSpPr>
            <p:cNvPr id="394" name="Group 4"/>
            <p:cNvGrpSpPr/>
            <p:nvPr/>
          </p:nvGrpSpPr>
          <p:grpSpPr>
            <a:xfrm>
              <a:off x="218160" y="1503360"/>
              <a:ext cx="8723880" cy="4849920"/>
              <a:chOff x="218160" y="1503360"/>
              <a:chExt cx="8723880" cy="4849920"/>
            </a:xfrm>
          </p:grpSpPr>
          <p:grpSp>
            <p:nvGrpSpPr>
              <p:cNvPr id="395" name="Group 5"/>
              <p:cNvGrpSpPr/>
              <p:nvPr/>
            </p:nvGrpSpPr>
            <p:grpSpPr>
              <a:xfrm>
                <a:off x="218160" y="1503360"/>
                <a:ext cx="1547640" cy="484920"/>
                <a:chOff x="218160" y="1503360"/>
                <a:chExt cx="1547640" cy="484920"/>
              </a:xfrm>
            </p:grpSpPr>
            <p:sp>
              <p:nvSpPr>
                <p:cNvPr id="396" name="Rectangle 6"/>
                <p:cNvSpPr/>
                <p:nvPr/>
              </p:nvSpPr>
              <p:spPr>
                <a:xfrm>
                  <a:off x="280440" y="1503360"/>
                  <a:ext cx="142272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ROGA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397" name="Rectangle 7"/>
                <p:cNvSpPr/>
                <p:nvPr/>
              </p:nvSpPr>
              <p:spPr>
                <a:xfrm>
                  <a:off x="218160" y="1503360"/>
                  <a:ext cx="1547640" cy="48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398" name="Group 8"/>
              <p:cNvGrpSpPr/>
              <p:nvPr/>
            </p:nvGrpSpPr>
            <p:grpSpPr>
              <a:xfrm>
                <a:off x="1765800" y="1503360"/>
                <a:ext cx="2427120" cy="484920"/>
                <a:chOff x="1765800" y="1503360"/>
                <a:chExt cx="2427120" cy="484920"/>
              </a:xfrm>
            </p:grpSpPr>
            <p:sp>
              <p:nvSpPr>
                <p:cNvPr id="399" name="Rectangle 9"/>
                <p:cNvSpPr/>
                <p:nvPr/>
              </p:nvSpPr>
              <p:spPr>
                <a:xfrm>
                  <a:off x="1828080" y="1503360"/>
                  <a:ext cx="230184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OXICACIÓN AGU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00" name="Rectangle 10"/>
                <p:cNvSpPr/>
                <p:nvPr/>
              </p:nvSpPr>
              <p:spPr>
                <a:xfrm>
                  <a:off x="1765800" y="1503360"/>
                  <a:ext cx="2427120" cy="48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01" name="Group 11"/>
              <p:cNvGrpSpPr/>
              <p:nvPr/>
            </p:nvGrpSpPr>
            <p:grpSpPr>
              <a:xfrm>
                <a:off x="4192920" y="1503360"/>
                <a:ext cx="2426760" cy="484920"/>
                <a:chOff x="4192920" y="1503360"/>
                <a:chExt cx="2426760" cy="484920"/>
              </a:xfrm>
            </p:grpSpPr>
            <p:sp>
              <p:nvSpPr>
                <p:cNvPr id="402" name="Rectangle 12"/>
                <p:cNvSpPr/>
                <p:nvPr/>
              </p:nvSpPr>
              <p:spPr>
                <a:xfrm>
                  <a:off x="4255200" y="1503360"/>
                  <a:ext cx="230184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ÍNDROME DE ABSTIN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03" name="Rectangle 13"/>
                <p:cNvSpPr/>
                <p:nvPr/>
              </p:nvSpPr>
              <p:spPr>
                <a:xfrm>
                  <a:off x="4192920" y="1503360"/>
                  <a:ext cx="2426760" cy="48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04" name="Group 14"/>
              <p:cNvGrpSpPr/>
              <p:nvPr/>
            </p:nvGrpSpPr>
            <p:grpSpPr>
              <a:xfrm>
                <a:off x="6619680" y="1503360"/>
                <a:ext cx="2322360" cy="484920"/>
                <a:chOff x="6619680" y="1503360"/>
                <a:chExt cx="2322360" cy="484920"/>
              </a:xfrm>
            </p:grpSpPr>
            <p:sp>
              <p:nvSpPr>
                <p:cNvPr id="405" name="Rectangle 15"/>
                <p:cNvSpPr/>
                <p:nvPr/>
              </p:nvSpPr>
              <p:spPr>
                <a:xfrm>
                  <a:off x="6681960" y="1503360"/>
                  <a:ext cx="219744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FECTOS A LARGO PLAZO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06" name="Rectangle 16"/>
                <p:cNvSpPr/>
                <p:nvPr/>
              </p:nvSpPr>
              <p:spPr>
                <a:xfrm>
                  <a:off x="6619680" y="1503360"/>
                  <a:ext cx="2322360" cy="48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07" name="Group 17"/>
              <p:cNvGrpSpPr/>
              <p:nvPr/>
            </p:nvGrpSpPr>
            <p:grpSpPr>
              <a:xfrm>
                <a:off x="218160" y="1988280"/>
                <a:ext cx="1547640" cy="900720"/>
                <a:chOff x="218160" y="1988280"/>
                <a:chExt cx="1547640" cy="900720"/>
              </a:xfrm>
            </p:grpSpPr>
            <p:sp>
              <p:nvSpPr>
                <p:cNvPr id="408" name="Rectangle 18"/>
                <p:cNvSpPr/>
                <p:nvPr/>
              </p:nvSpPr>
              <p:spPr>
                <a:xfrm>
                  <a:off x="280440" y="1988280"/>
                  <a:ext cx="1422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iáce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09" name="Rectangle 19"/>
                <p:cNvSpPr/>
                <p:nvPr/>
              </p:nvSpPr>
              <p:spPr>
                <a:xfrm>
                  <a:off x="218160" y="1988280"/>
                  <a:ext cx="1547640" cy="90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10" name="Group 20"/>
              <p:cNvGrpSpPr/>
              <p:nvPr/>
            </p:nvGrpSpPr>
            <p:grpSpPr>
              <a:xfrm>
                <a:off x="1765800" y="1988280"/>
                <a:ext cx="2427120" cy="900720"/>
                <a:chOff x="1765800" y="1988280"/>
                <a:chExt cx="2427120" cy="900720"/>
              </a:xfrm>
            </p:grpSpPr>
            <p:sp>
              <p:nvSpPr>
                <p:cNvPr id="411" name="Rectangle 21"/>
                <p:cNvSpPr/>
                <p:nvPr/>
              </p:nvSpPr>
              <p:spPr>
                <a:xfrm>
                  <a:off x="1828080" y="1988280"/>
                  <a:ext cx="230184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iosis, depresión respiratoria, espasmos gastrointestinales, menor agudez sensorial, edema pulmonar, shock, convulsion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12" name="Rectangle 22"/>
                <p:cNvSpPr/>
                <p:nvPr/>
              </p:nvSpPr>
              <p:spPr>
                <a:xfrm>
                  <a:off x="1765800" y="1988280"/>
                  <a:ext cx="2427120" cy="90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13" name="Group 23"/>
              <p:cNvGrpSpPr/>
              <p:nvPr/>
            </p:nvGrpSpPr>
            <p:grpSpPr>
              <a:xfrm>
                <a:off x="4192920" y="1988280"/>
                <a:ext cx="2426760" cy="900720"/>
                <a:chOff x="4192920" y="1988280"/>
                <a:chExt cx="2426760" cy="900720"/>
              </a:xfrm>
            </p:grpSpPr>
            <p:sp>
              <p:nvSpPr>
                <p:cNvPr id="414" name="Rectangle 24"/>
                <p:cNvSpPr/>
                <p:nvPr/>
              </p:nvSpPr>
              <p:spPr>
                <a:xfrm>
                  <a:off x="4255200" y="1988280"/>
                  <a:ext cx="230184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idriasis, hipertensión, disnea, diarrea, vómito, ansiedad, lagrimeo, rinorrea, escalofríos, temblor, bostezos, convulsion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15" name="Rectangle 25"/>
                <p:cNvSpPr/>
                <p:nvPr/>
              </p:nvSpPr>
              <p:spPr>
                <a:xfrm>
                  <a:off x="4192920" y="1988280"/>
                  <a:ext cx="2426760" cy="90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16" name="Group 26"/>
              <p:cNvGrpSpPr/>
              <p:nvPr/>
            </p:nvGrpSpPr>
            <p:grpSpPr>
              <a:xfrm>
                <a:off x="6619680" y="1988280"/>
                <a:ext cx="2322360" cy="900720"/>
                <a:chOff x="6619680" y="1988280"/>
                <a:chExt cx="2322360" cy="900720"/>
              </a:xfrm>
            </p:grpSpPr>
            <p:sp>
              <p:nvSpPr>
                <p:cNvPr id="417" name="Rectangle 27"/>
                <p:cNvSpPr/>
                <p:nvPr/>
              </p:nvSpPr>
              <p:spPr>
                <a:xfrm>
                  <a:off x="6681960" y="1988280"/>
                  <a:ext cx="219744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orexia, estreñimiento, impotencia, amenorrea, endocarditis bacteriana, hepatitis, absces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18" name="Rectangle 28"/>
                <p:cNvSpPr/>
                <p:nvPr/>
              </p:nvSpPr>
              <p:spPr>
                <a:xfrm>
                  <a:off x="6619680" y="1988280"/>
                  <a:ext cx="2322360" cy="90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19" name="Group 29"/>
              <p:cNvGrpSpPr/>
              <p:nvPr/>
            </p:nvGrpSpPr>
            <p:grpSpPr>
              <a:xfrm>
                <a:off x="218160" y="2889360"/>
                <a:ext cx="1547640" cy="900360"/>
                <a:chOff x="218160" y="2889360"/>
                <a:chExt cx="1547640" cy="900360"/>
              </a:xfrm>
            </p:grpSpPr>
            <p:sp>
              <p:nvSpPr>
                <p:cNvPr id="420" name="Rectangle 30"/>
                <p:cNvSpPr/>
                <p:nvPr/>
              </p:nvSpPr>
              <p:spPr>
                <a:xfrm>
                  <a:off x="280440" y="2889360"/>
                  <a:ext cx="142272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coh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21" name="Rectangle 31"/>
                <p:cNvSpPr/>
                <p:nvPr/>
              </p:nvSpPr>
              <p:spPr>
                <a:xfrm>
                  <a:off x="218160" y="2889360"/>
                  <a:ext cx="1547640" cy="90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22" name="Group 32"/>
              <p:cNvGrpSpPr/>
              <p:nvPr/>
            </p:nvGrpSpPr>
            <p:grpSpPr>
              <a:xfrm>
                <a:off x="1765800" y="2889360"/>
                <a:ext cx="2427120" cy="900360"/>
                <a:chOff x="1765800" y="2889360"/>
                <a:chExt cx="2427120" cy="900360"/>
              </a:xfrm>
            </p:grpSpPr>
            <p:sp>
              <p:nvSpPr>
                <p:cNvPr id="423" name="Rectangle 33"/>
                <p:cNvSpPr/>
                <p:nvPr/>
              </p:nvSpPr>
              <p:spPr>
                <a:xfrm>
                  <a:off x="1828080" y="2889360"/>
                  <a:ext cx="230184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mbriaguez, diplopía, agitación, riesgo de muerte por paro respiratori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24" name="Rectangle 34"/>
                <p:cNvSpPr/>
                <p:nvPr/>
              </p:nvSpPr>
              <p:spPr>
                <a:xfrm>
                  <a:off x="1765800" y="2889360"/>
                  <a:ext cx="2427120" cy="90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25" name="Group 35"/>
              <p:cNvGrpSpPr/>
              <p:nvPr/>
            </p:nvGrpSpPr>
            <p:grpSpPr>
              <a:xfrm>
                <a:off x="4192920" y="2889360"/>
                <a:ext cx="2426760" cy="900360"/>
                <a:chOff x="4192920" y="2889360"/>
                <a:chExt cx="2426760" cy="900360"/>
              </a:xfrm>
            </p:grpSpPr>
            <p:sp>
              <p:nvSpPr>
                <p:cNvPr id="426" name="Rectangle 36"/>
                <p:cNvSpPr/>
                <p:nvPr/>
              </p:nvSpPr>
              <p:spPr>
                <a:xfrm>
                  <a:off x="4255200" y="2889360"/>
                  <a:ext cx="230184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mblores, ansiedad, sudoración. En casos extremos “delirium tremens” con alcoholemia alta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27" name="Rectangle 37"/>
                <p:cNvSpPr/>
                <p:nvPr/>
              </p:nvSpPr>
              <p:spPr>
                <a:xfrm>
                  <a:off x="4192920" y="2889360"/>
                  <a:ext cx="2426760" cy="90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28" name="Group 38"/>
              <p:cNvGrpSpPr/>
              <p:nvPr/>
            </p:nvGrpSpPr>
            <p:grpSpPr>
              <a:xfrm>
                <a:off x="6619680" y="2889360"/>
                <a:ext cx="2322360" cy="900360"/>
                <a:chOff x="6619680" y="2889360"/>
                <a:chExt cx="2322360" cy="900360"/>
              </a:xfrm>
            </p:grpSpPr>
            <p:sp>
              <p:nvSpPr>
                <p:cNvPr id="429" name="Rectangle 39"/>
                <p:cNvSpPr/>
                <p:nvPr/>
              </p:nvSpPr>
              <p:spPr>
                <a:xfrm>
                  <a:off x="6681960" y="2889360"/>
                  <a:ext cx="219744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sicosis, enfermedad de Korskoff, encefalopatías, gastropatías, hepatopatías, pancreatopatías, polineuritis…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30" name="Rectangle 40"/>
                <p:cNvSpPr/>
                <p:nvPr/>
              </p:nvSpPr>
              <p:spPr>
                <a:xfrm>
                  <a:off x="6619680" y="2889360"/>
                  <a:ext cx="2322360" cy="90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31" name="Group 41"/>
              <p:cNvGrpSpPr/>
              <p:nvPr/>
            </p:nvGrpSpPr>
            <p:grpSpPr>
              <a:xfrm>
                <a:off x="218160" y="3790080"/>
                <a:ext cx="1547640" cy="900720"/>
                <a:chOff x="218160" y="3790080"/>
                <a:chExt cx="1547640" cy="900720"/>
              </a:xfrm>
            </p:grpSpPr>
            <p:sp>
              <p:nvSpPr>
                <p:cNvPr id="432" name="Rectangle 42"/>
                <p:cNvSpPr/>
                <p:nvPr/>
              </p:nvSpPr>
              <p:spPr>
                <a:xfrm>
                  <a:off x="280440" y="3790080"/>
                  <a:ext cx="1422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pnóticos y sedan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33" name="Rectangle 43"/>
                <p:cNvSpPr/>
                <p:nvPr/>
              </p:nvSpPr>
              <p:spPr>
                <a:xfrm>
                  <a:off x="218160" y="3790080"/>
                  <a:ext cx="1547640" cy="90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34" name="Group 44"/>
              <p:cNvGrpSpPr/>
              <p:nvPr/>
            </p:nvGrpSpPr>
            <p:grpSpPr>
              <a:xfrm>
                <a:off x="1765800" y="3790080"/>
                <a:ext cx="2427120" cy="900720"/>
                <a:chOff x="1765800" y="3790080"/>
                <a:chExt cx="2427120" cy="900720"/>
              </a:xfrm>
            </p:grpSpPr>
            <p:sp>
              <p:nvSpPr>
                <p:cNvPr id="435" name="Rectangle 45"/>
                <p:cNvSpPr/>
                <p:nvPr/>
              </p:nvSpPr>
              <p:spPr>
                <a:xfrm>
                  <a:off x="1828080" y="3790080"/>
                  <a:ext cx="230184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axia, incoordinación, trastornos del equilibrio, hipotensión, bradicardia, hiporreflexia, coma, shock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36" name="Rectangle 46"/>
                <p:cNvSpPr/>
                <p:nvPr/>
              </p:nvSpPr>
              <p:spPr>
                <a:xfrm>
                  <a:off x="1765800" y="3790080"/>
                  <a:ext cx="2427120" cy="90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37" name="Group 47"/>
              <p:cNvGrpSpPr/>
              <p:nvPr/>
            </p:nvGrpSpPr>
            <p:grpSpPr>
              <a:xfrm>
                <a:off x="4192920" y="3790080"/>
                <a:ext cx="2426760" cy="900720"/>
                <a:chOff x="4192920" y="3790080"/>
                <a:chExt cx="2426760" cy="900720"/>
              </a:xfrm>
            </p:grpSpPr>
            <p:sp>
              <p:nvSpPr>
                <p:cNvPr id="438" name="Rectangle 48"/>
                <p:cNvSpPr/>
                <p:nvPr/>
              </p:nvSpPr>
              <p:spPr>
                <a:xfrm>
                  <a:off x="4255200" y="3790080"/>
                  <a:ext cx="230184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omnio, hiporreflexia, desmayos, temblores, hipertermia, agitación, delirio, psicosis, deshidratación, coma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39" name="Rectangle 49"/>
                <p:cNvSpPr/>
                <p:nvPr/>
              </p:nvSpPr>
              <p:spPr>
                <a:xfrm>
                  <a:off x="4192920" y="3790080"/>
                  <a:ext cx="2426760" cy="90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40" name="Group 50"/>
              <p:cNvGrpSpPr/>
              <p:nvPr/>
            </p:nvGrpSpPr>
            <p:grpSpPr>
              <a:xfrm>
                <a:off x="6619680" y="3790080"/>
                <a:ext cx="2322360" cy="900720"/>
                <a:chOff x="6619680" y="3790080"/>
                <a:chExt cx="2322360" cy="900720"/>
              </a:xfrm>
            </p:grpSpPr>
            <p:sp>
              <p:nvSpPr>
                <p:cNvPr id="441" name="Rectangle 51"/>
                <p:cNvSpPr/>
                <p:nvPr/>
              </p:nvSpPr>
              <p:spPr>
                <a:xfrm>
                  <a:off x="6681960" y="3790080"/>
                  <a:ext cx="219744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siedad,irritabilidad,inestabilidad emocional, conducta infantil, agresividad,deterioro intelectual, suicidi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42" name="Rectangle 52"/>
                <p:cNvSpPr/>
                <p:nvPr/>
              </p:nvSpPr>
              <p:spPr>
                <a:xfrm>
                  <a:off x="6619680" y="3790080"/>
                  <a:ext cx="2322360" cy="90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43" name="Group 53"/>
              <p:cNvGrpSpPr/>
              <p:nvPr/>
            </p:nvGrpSpPr>
            <p:grpSpPr>
              <a:xfrm>
                <a:off x="218160" y="4690800"/>
                <a:ext cx="1547640" cy="762120"/>
                <a:chOff x="218160" y="4690800"/>
                <a:chExt cx="1547640" cy="762120"/>
              </a:xfrm>
            </p:grpSpPr>
            <p:sp>
              <p:nvSpPr>
                <p:cNvPr id="444" name="Rectangle 54"/>
                <p:cNvSpPr/>
                <p:nvPr/>
              </p:nvSpPr>
              <p:spPr>
                <a:xfrm>
                  <a:off x="280440" y="4690800"/>
                  <a:ext cx="14227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nquilizantes men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45" name="Rectangle 55"/>
                <p:cNvSpPr/>
                <p:nvPr/>
              </p:nvSpPr>
              <p:spPr>
                <a:xfrm>
                  <a:off x="218160" y="4690800"/>
                  <a:ext cx="15476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46" name="Group 56"/>
              <p:cNvGrpSpPr/>
              <p:nvPr/>
            </p:nvGrpSpPr>
            <p:grpSpPr>
              <a:xfrm>
                <a:off x="1765800" y="4690800"/>
                <a:ext cx="2427120" cy="762120"/>
                <a:chOff x="1765800" y="4690800"/>
                <a:chExt cx="2427120" cy="762120"/>
              </a:xfrm>
            </p:grpSpPr>
            <p:sp>
              <p:nvSpPr>
                <p:cNvPr id="447" name="Rectangle 57"/>
                <p:cNvSpPr/>
                <p:nvPr/>
              </p:nvSpPr>
              <p:spPr>
                <a:xfrm>
                  <a:off x="1828080" y="4690800"/>
                  <a:ext cx="23018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ntomatología similar a la reseñada para el grupo anterior, pero mucho menos marcada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48" name="Rectangle 58"/>
                <p:cNvSpPr/>
                <p:nvPr/>
              </p:nvSpPr>
              <p:spPr>
                <a:xfrm>
                  <a:off x="1765800" y="4690800"/>
                  <a:ext cx="2427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49" name="Group 59"/>
              <p:cNvGrpSpPr/>
              <p:nvPr/>
            </p:nvGrpSpPr>
            <p:grpSpPr>
              <a:xfrm>
                <a:off x="4192920" y="4690800"/>
                <a:ext cx="2426760" cy="762120"/>
                <a:chOff x="4192920" y="4690800"/>
                <a:chExt cx="2426760" cy="762120"/>
              </a:xfrm>
            </p:grpSpPr>
            <p:sp>
              <p:nvSpPr>
                <p:cNvPr id="450" name="Rectangle 60"/>
                <p:cNvSpPr/>
                <p:nvPr/>
              </p:nvSpPr>
              <p:spPr>
                <a:xfrm>
                  <a:off x="4255200" y="4690800"/>
                  <a:ext cx="23018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51" name="Rectangle 61"/>
                <p:cNvSpPr/>
                <p:nvPr/>
              </p:nvSpPr>
              <p:spPr>
                <a:xfrm>
                  <a:off x="4192920" y="4690800"/>
                  <a:ext cx="242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52" name="Group 62"/>
              <p:cNvGrpSpPr/>
              <p:nvPr/>
            </p:nvGrpSpPr>
            <p:grpSpPr>
              <a:xfrm>
                <a:off x="6619680" y="4690800"/>
                <a:ext cx="2322360" cy="762120"/>
                <a:chOff x="6619680" y="4690800"/>
                <a:chExt cx="2322360" cy="762120"/>
              </a:xfrm>
            </p:grpSpPr>
            <p:sp>
              <p:nvSpPr>
                <p:cNvPr id="453" name="Rectangle 63"/>
                <p:cNvSpPr/>
                <p:nvPr/>
              </p:nvSpPr>
              <p:spPr>
                <a:xfrm>
                  <a:off x="6681960" y="4690800"/>
                  <a:ext cx="21974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54" name="Rectangle 64"/>
                <p:cNvSpPr/>
                <p:nvPr/>
              </p:nvSpPr>
              <p:spPr>
                <a:xfrm>
                  <a:off x="6619680" y="4690800"/>
                  <a:ext cx="2322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55" name="Group 65"/>
              <p:cNvGrpSpPr/>
              <p:nvPr/>
            </p:nvGrpSpPr>
            <p:grpSpPr>
              <a:xfrm>
                <a:off x="218160" y="5452920"/>
                <a:ext cx="1547640" cy="900360"/>
                <a:chOff x="218160" y="5452920"/>
                <a:chExt cx="1547640" cy="900360"/>
              </a:xfrm>
            </p:grpSpPr>
            <p:sp>
              <p:nvSpPr>
                <p:cNvPr id="456" name="Rectangle 66"/>
                <p:cNvSpPr/>
                <p:nvPr/>
              </p:nvSpPr>
              <p:spPr>
                <a:xfrm>
                  <a:off x="280440" y="5452920"/>
                  <a:ext cx="142272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fetaminas y anoxigen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57" name="Rectangle 67"/>
                <p:cNvSpPr/>
                <p:nvPr/>
              </p:nvSpPr>
              <p:spPr>
                <a:xfrm>
                  <a:off x="218160" y="5452920"/>
                  <a:ext cx="1547640" cy="90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58" name="Group 68"/>
              <p:cNvGrpSpPr/>
              <p:nvPr/>
            </p:nvGrpSpPr>
            <p:grpSpPr>
              <a:xfrm>
                <a:off x="1765800" y="5452920"/>
                <a:ext cx="2427120" cy="900360"/>
                <a:chOff x="1765800" y="5452920"/>
                <a:chExt cx="2427120" cy="900360"/>
              </a:xfrm>
            </p:grpSpPr>
            <p:sp>
              <p:nvSpPr>
                <p:cNvPr id="459" name="Rectangle 69"/>
                <p:cNvSpPr/>
                <p:nvPr/>
              </p:nvSpPr>
              <p:spPr>
                <a:xfrm>
                  <a:off x="1828080" y="5452920"/>
                  <a:ext cx="230184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idriasis, sequedad de boca, sudoración, fiebre, irritabilidad, agresividad, temblores, espasmos, convulsiones, delirio paranoide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60" name="Rectangle 70"/>
                <p:cNvSpPr/>
                <p:nvPr/>
              </p:nvSpPr>
              <p:spPr>
                <a:xfrm>
                  <a:off x="1765800" y="5452920"/>
                  <a:ext cx="2427120" cy="90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61" name="Group 71"/>
              <p:cNvGrpSpPr/>
              <p:nvPr/>
            </p:nvGrpSpPr>
            <p:grpSpPr>
              <a:xfrm>
                <a:off x="4192920" y="5452920"/>
                <a:ext cx="2426760" cy="900360"/>
                <a:chOff x="4192920" y="5452920"/>
                <a:chExt cx="2426760" cy="900360"/>
              </a:xfrm>
            </p:grpSpPr>
            <p:sp>
              <p:nvSpPr>
                <p:cNvPr id="462" name="Rectangle 72"/>
                <p:cNvSpPr/>
                <p:nvPr/>
              </p:nvSpPr>
              <p:spPr>
                <a:xfrm>
                  <a:off x="4255200" y="5452920"/>
                  <a:ext cx="230184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presión, apatía, somnolencia, dolores musculares, intranquilidad, crisis afectivas, riesgo de suicidi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63" name="Rectangle 73"/>
                <p:cNvSpPr/>
                <p:nvPr/>
              </p:nvSpPr>
              <p:spPr>
                <a:xfrm>
                  <a:off x="4192920" y="5452920"/>
                  <a:ext cx="2426760" cy="90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64" name="Group 74"/>
              <p:cNvGrpSpPr/>
              <p:nvPr/>
            </p:nvGrpSpPr>
            <p:grpSpPr>
              <a:xfrm>
                <a:off x="6619680" y="5452920"/>
                <a:ext cx="2322360" cy="900360"/>
                <a:chOff x="6619680" y="5452920"/>
                <a:chExt cx="2322360" cy="900360"/>
              </a:xfrm>
            </p:grpSpPr>
            <p:sp>
              <p:nvSpPr>
                <p:cNvPr id="465" name="Rectangle 75"/>
                <p:cNvSpPr/>
                <p:nvPr/>
              </p:nvSpPr>
              <p:spPr>
                <a:xfrm>
                  <a:off x="6681960" y="5452920"/>
                  <a:ext cx="219744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rritabilidad, delgadez, paranoia, abscesos, hepatopatía, psicosis anfetamínica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66" name="Rectangle 76"/>
                <p:cNvSpPr/>
                <p:nvPr/>
              </p:nvSpPr>
              <p:spPr>
                <a:xfrm>
                  <a:off x="6619680" y="5452920"/>
                  <a:ext cx="2322360" cy="90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sp>
          <p:nvSpPr>
            <p:cNvPr id="467" name="Rectangle 77"/>
            <p:cNvSpPr/>
            <p:nvPr/>
          </p:nvSpPr>
          <p:spPr>
            <a:xfrm>
              <a:off x="214200" y="1500120"/>
              <a:ext cx="8732880" cy="4857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75f55"/>
                </a:solidFill>
                <a:latin typeface="Tw Cen MT"/>
              </a:rPr>
              <a:t>DROGAS MÁS COMUN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469" name="Group 3"/>
          <p:cNvGrpSpPr/>
          <p:nvPr/>
        </p:nvGrpSpPr>
        <p:grpSpPr>
          <a:xfrm>
            <a:off x="285840" y="1643040"/>
            <a:ext cx="8643960" cy="4995720"/>
            <a:chOff x="285840" y="1643040"/>
            <a:chExt cx="8643960" cy="4995720"/>
          </a:xfrm>
        </p:grpSpPr>
        <p:grpSp>
          <p:nvGrpSpPr>
            <p:cNvPr id="470" name="Group 4"/>
            <p:cNvGrpSpPr/>
            <p:nvPr/>
          </p:nvGrpSpPr>
          <p:grpSpPr>
            <a:xfrm>
              <a:off x="289800" y="1646280"/>
              <a:ext cx="8634960" cy="4988160"/>
              <a:chOff x="289800" y="1646280"/>
              <a:chExt cx="8634960" cy="4988160"/>
            </a:xfrm>
          </p:grpSpPr>
          <p:grpSp>
            <p:nvGrpSpPr>
              <p:cNvPr id="471" name="Group 5"/>
              <p:cNvGrpSpPr/>
              <p:nvPr/>
            </p:nvGrpSpPr>
            <p:grpSpPr>
              <a:xfrm>
                <a:off x="289800" y="1646280"/>
                <a:ext cx="1531800" cy="478440"/>
                <a:chOff x="289800" y="1646280"/>
                <a:chExt cx="1531800" cy="478440"/>
              </a:xfrm>
            </p:grpSpPr>
            <p:sp>
              <p:nvSpPr>
                <p:cNvPr id="472" name="Rectangle 6"/>
                <p:cNvSpPr/>
                <p:nvPr/>
              </p:nvSpPr>
              <p:spPr>
                <a:xfrm>
                  <a:off x="351720" y="1646280"/>
                  <a:ext cx="1407960" cy="47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ROGA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73" name="Rectangle 7"/>
                <p:cNvSpPr/>
                <p:nvPr/>
              </p:nvSpPr>
              <p:spPr>
                <a:xfrm>
                  <a:off x="289800" y="1646280"/>
                  <a:ext cx="153180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74" name="Group 8"/>
              <p:cNvGrpSpPr/>
              <p:nvPr/>
            </p:nvGrpSpPr>
            <p:grpSpPr>
              <a:xfrm>
                <a:off x="1821600" y="1646280"/>
                <a:ext cx="2402280" cy="478440"/>
                <a:chOff x="1821600" y="1646280"/>
                <a:chExt cx="2402280" cy="478440"/>
              </a:xfrm>
            </p:grpSpPr>
            <p:sp>
              <p:nvSpPr>
                <p:cNvPr id="475" name="Rectangle 9"/>
                <p:cNvSpPr/>
                <p:nvPr/>
              </p:nvSpPr>
              <p:spPr>
                <a:xfrm>
                  <a:off x="1883520" y="1646280"/>
                  <a:ext cx="2278080" cy="47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OXICACIÓN AGU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76" name="Rectangle 10"/>
                <p:cNvSpPr/>
                <p:nvPr/>
              </p:nvSpPr>
              <p:spPr>
                <a:xfrm>
                  <a:off x="1821600" y="1646280"/>
                  <a:ext cx="24022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77" name="Group 11"/>
              <p:cNvGrpSpPr/>
              <p:nvPr/>
            </p:nvGrpSpPr>
            <p:grpSpPr>
              <a:xfrm>
                <a:off x="4223880" y="1646280"/>
                <a:ext cx="2401920" cy="478440"/>
                <a:chOff x="4223880" y="1646280"/>
                <a:chExt cx="2401920" cy="478440"/>
              </a:xfrm>
            </p:grpSpPr>
            <p:sp>
              <p:nvSpPr>
                <p:cNvPr id="478" name="Rectangle 12"/>
                <p:cNvSpPr/>
                <p:nvPr/>
              </p:nvSpPr>
              <p:spPr>
                <a:xfrm>
                  <a:off x="4285440" y="1646280"/>
                  <a:ext cx="2278080" cy="47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ÍNDROME DE ABSTIN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79" name="Rectangle 13"/>
                <p:cNvSpPr/>
                <p:nvPr/>
              </p:nvSpPr>
              <p:spPr>
                <a:xfrm>
                  <a:off x="4223880" y="1646280"/>
                  <a:ext cx="240192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80" name="Group 14"/>
              <p:cNvGrpSpPr/>
              <p:nvPr/>
            </p:nvGrpSpPr>
            <p:grpSpPr>
              <a:xfrm>
                <a:off x="6626160" y="1646280"/>
                <a:ext cx="2298600" cy="478440"/>
                <a:chOff x="6626160" y="1646280"/>
                <a:chExt cx="2298600" cy="478440"/>
              </a:xfrm>
            </p:grpSpPr>
            <p:sp>
              <p:nvSpPr>
                <p:cNvPr id="481" name="Rectangle 15"/>
                <p:cNvSpPr/>
                <p:nvPr/>
              </p:nvSpPr>
              <p:spPr>
                <a:xfrm>
                  <a:off x="6687720" y="1646280"/>
                  <a:ext cx="2174760" cy="47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FECTOS A LARGO PLAZO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82" name="Rectangle 16"/>
                <p:cNvSpPr/>
                <p:nvPr/>
              </p:nvSpPr>
              <p:spPr>
                <a:xfrm>
                  <a:off x="6626160" y="1646280"/>
                  <a:ext cx="229860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83" name="Group 17"/>
              <p:cNvGrpSpPr/>
              <p:nvPr/>
            </p:nvGrpSpPr>
            <p:grpSpPr>
              <a:xfrm>
                <a:off x="289800" y="2124720"/>
                <a:ext cx="1531800" cy="614880"/>
                <a:chOff x="289800" y="2124720"/>
                <a:chExt cx="1531800" cy="614880"/>
              </a:xfrm>
            </p:grpSpPr>
            <p:sp>
              <p:nvSpPr>
                <p:cNvPr id="484" name="Rectangle 18"/>
                <p:cNvSpPr/>
                <p:nvPr/>
              </p:nvSpPr>
              <p:spPr>
                <a:xfrm>
                  <a:off x="351720" y="2124720"/>
                  <a:ext cx="140796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caína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85" name="Rectangle 19"/>
                <p:cNvSpPr/>
                <p:nvPr/>
              </p:nvSpPr>
              <p:spPr>
                <a:xfrm>
                  <a:off x="289800" y="2124720"/>
                  <a:ext cx="153180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86" name="Group 20"/>
              <p:cNvGrpSpPr/>
              <p:nvPr/>
            </p:nvGrpSpPr>
            <p:grpSpPr>
              <a:xfrm>
                <a:off x="1821600" y="2124720"/>
                <a:ext cx="2402280" cy="614880"/>
                <a:chOff x="1821600" y="2124720"/>
                <a:chExt cx="2402280" cy="614880"/>
              </a:xfrm>
            </p:grpSpPr>
            <p:sp>
              <p:nvSpPr>
                <p:cNvPr id="487" name="Rectangle 21"/>
                <p:cNvSpPr/>
                <p:nvPr/>
              </p:nvSpPr>
              <p:spPr>
                <a:xfrm>
                  <a:off x="1883520" y="2124720"/>
                  <a:ext cx="227808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ísmos síntomas del grupo anterior y la lesión típica del tabique nas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88" name="Rectangle 22"/>
                <p:cNvSpPr/>
                <p:nvPr/>
              </p:nvSpPr>
              <p:spPr>
                <a:xfrm>
                  <a:off x="1821600" y="2124720"/>
                  <a:ext cx="240228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89" name="Group 23"/>
              <p:cNvGrpSpPr/>
              <p:nvPr/>
            </p:nvGrpSpPr>
            <p:grpSpPr>
              <a:xfrm>
                <a:off x="4223880" y="2124720"/>
                <a:ext cx="2401920" cy="614880"/>
                <a:chOff x="4223880" y="2124720"/>
                <a:chExt cx="2401920" cy="614880"/>
              </a:xfrm>
            </p:grpSpPr>
            <p:sp>
              <p:nvSpPr>
                <p:cNvPr id="490" name="Rectangle 24"/>
                <p:cNvSpPr/>
                <p:nvPr/>
              </p:nvSpPr>
              <p:spPr>
                <a:xfrm>
                  <a:off x="4285440" y="2124720"/>
                  <a:ext cx="227808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91" name="Rectangle 25"/>
                <p:cNvSpPr/>
                <p:nvPr/>
              </p:nvSpPr>
              <p:spPr>
                <a:xfrm>
                  <a:off x="4223880" y="2124720"/>
                  <a:ext cx="24019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92" name="Group 26"/>
              <p:cNvGrpSpPr/>
              <p:nvPr/>
            </p:nvGrpSpPr>
            <p:grpSpPr>
              <a:xfrm>
                <a:off x="6626160" y="2124720"/>
                <a:ext cx="2298600" cy="614880"/>
                <a:chOff x="6626160" y="2124720"/>
                <a:chExt cx="2298600" cy="614880"/>
              </a:xfrm>
            </p:grpSpPr>
            <p:sp>
              <p:nvSpPr>
                <p:cNvPr id="493" name="Rectangle 27"/>
                <p:cNvSpPr/>
                <p:nvPr/>
              </p:nvSpPr>
              <p:spPr>
                <a:xfrm>
                  <a:off x="6687720" y="2124720"/>
                  <a:ext cx="217476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94" name="Rectangle 28"/>
                <p:cNvSpPr/>
                <p:nvPr/>
              </p:nvSpPr>
              <p:spPr>
                <a:xfrm>
                  <a:off x="6626160" y="2124720"/>
                  <a:ext cx="229860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95" name="Group 29"/>
              <p:cNvGrpSpPr/>
              <p:nvPr/>
            </p:nvGrpSpPr>
            <p:grpSpPr>
              <a:xfrm>
                <a:off x="289800" y="2739600"/>
                <a:ext cx="1531800" cy="751680"/>
                <a:chOff x="289800" y="2739600"/>
                <a:chExt cx="1531800" cy="751680"/>
              </a:xfrm>
            </p:grpSpPr>
            <p:sp>
              <p:nvSpPr>
                <p:cNvPr id="496" name="Rectangle 30"/>
                <p:cNvSpPr/>
                <p:nvPr/>
              </p:nvSpPr>
              <p:spPr>
                <a:xfrm>
                  <a:off x="351720" y="2739600"/>
                  <a:ext cx="1407960" cy="75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anti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497" name="Rectangle 31"/>
                <p:cNvSpPr/>
                <p:nvPr/>
              </p:nvSpPr>
              <p:spPr>
                <a:xfrm>
                  <a:off x="289800" y="2739600"/>
                  <a:ext cx="1531800" cy="75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498" name="Group 32"/>
              <p:cNvGrpSpPr/>
              <p:nvPr/>
            </p:nvGrpSpPr>
            <p:grpSpPr>
              <a:xfrm>
                <a:off x="1821600" y="2739600"/>
                <a:ext cx="2402280" cy="751680"/>
                <a:chOff x="1821600" y="2739600"/>
                <a:chExt cx="2402280" cy="751680"/>
              </a:xfrm>
            </p:grpSpPr>
            <p:sp>
              <p:nvSpPr>
                <p:cNvPr id="499" name="Rectangle 33"/>
                <p:cNvSpPr/>
                <p:nvPr/>
              </p:nvSpPr>
              <p:spPr>
                <a:xfrm>
                  <a:off x="1883520" y="2739600"/>
                  <a:ext cx="2278080" cy="75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íntomas parecidos al grupo anterior, pero muy atenuados y leves, Riesgo para cardíacos e hipertens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00" name="Rectangle 34"/>
                <p:cNvSpPr/>
                <p:nvPr/>
              </p:nvSpPr>
              <p:spPr>
                <a:xfrm>
                  <a:off x="1821600" y="2739600"/>
                  <a:ext cx="2402280" cy="75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01" name="Group 35"/>
              <p:cNvGrpSpPr/>
              <p:nvPr/>
            </p:nvGrpSpPr>
            <p:grpSpPr>
              <a:xfrm>
                <a:off x="4223880" y="2739600"/>
                <a:ext cx="2401920" cy="751680"/>
                <a:chOff x="4223880" y="2739600"/>
                <a:chExt cx="2401920" cy="751680"/>
              </a:xfrm>
            </p:grpSpPr>
            <p:sp>
              <p:nvSpPr>
                <p:cNvPr id="502" name="Rectangle 36"/>
                <p:cNvSpPr/>
                <p:nvPr/>
              </p:nvSpPr>
              <p:spPr>
                <a:xfrm>
                  <a:off x="4285440" y="2739600"/>
                  <a:ext cx="2278080" cy="75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03" name="Rectangle 37"/>
                <p:cNvSpPr/>
                <p:nvPr/>
              </p:nvSpPr>
              <p:spPr>
                <a:xfrm>
                  <a:off x="4223880" y="2739600"/>
                  <a:ext cx="2401920" cy="75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04" name="Group 38"/>
              <p:cNvGrpSpPr/>
              <p:nvPr/>
            </p:nvGrpSpPr>
            <p:grpSpPr>
              <a:xfrm>
                <a:off x="6626160" y="2739600"/>
                <a:ext cx="2298600" cy="751680"/>
                <a:chOff x="6626160" y="2739600"/>
                <a:chExt cx="2298600" cy="751680"/>
              </a:xfrm>
            </p:grpSpPr>
            <p:sp>
              <p:nvSpPr>
                <p:cNvPr id="505" name="Rectangle 39"/>
                <p:cNvSpPr/>
                <p:nvPr/>
              </p:nvSpPr>
              <p:spPr>
                <a:xfrm>
                  <a:off x="6687720" y="2739600"/>
                  <a:ext cx="2174760" cy="75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06" name="Rectangle 40"/>
                <p:cNvSpPr/>
                <p:nvPr/>
              </p:nvSpPr>
              <p:spPr>
                <a:xfrm>
                  <a:off x="6626160" y="2739600"/>
                  <a:ext cx="2298600" cy="75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07" name="Group 41"/>
              <p:cNvGrpSpPr/>
              <p:nvPr/>
            </p:nvGrpSpPr>
            <p:grpSpPr>
              <a:xfrm>
                <a:off x="289800" y="3491640"/>
                <a:ext cx="1531800" cy="888120"/>
                <a:chOff x="289800" y="3491640"/>
                <a:chExt cx="1531800" cy="888120"/>
              </a:xfrm>
            </p:grpSpPr>
            <p:sp>
              <p:nvSpPr>
                <p:cNvPr id="508" name="Rectangle 42"/>
                <p:cNvSpPr/>
                <p:nvPr/>
              </p:nvSpPr>
              <p:spPr>
                <a:xfrm>
                  <a:off x="351720" y="3491640"/>
                  <a:ext cx="1407960" cy="88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presores derivados del cannab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09" name="Rectangle 43"/>
                <p:cNvSpPr/>
                <p:nvPr/>
              </p:nvSpPr>
              <p:spPr>
                <a:xfrm>
                  <a:off x="289800" y="3491640"/>
                  <a:ext cx="1531800" cy="88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10" name="Group 44"/>
              <p:cNvGrpSpPr/>
              <p:nvPr/>
            </p:nvGrpSpPr>
            <p:grpSpPr>
              <a:xfrm>
                <a:off x="1821600" y="3491640"/>
                <a:ext cx="2402280" cy="888120"/>
                <a:chOff x="1821600" y="3491640"/>
                <a:chExt cx="2402280" cy="888120"/>
              </a:xfrm>
            </p:grpSpPr>
            <p:sp>
              <p:nvSpPr>
                <p:cNvPr id="511" name="Rectangle 45"/>
                <p:cNvSpPr/>
                <p:nvPr/>
              </p:nvSpPr>
              <p:spPr>
                <a:xfrm>
                  <a:off x="1883520" y="3491640"/>
                  <a:ext cx="2278080" cy="88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juntiva enrojecida, sequedad de boca, ansiedad, pánico, agresividad, taquicardia, hipotensión, ilusiones y alucinacion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12" name="Rectangle 46"/>
                <p:cNvSpPr/>
                <p:nvPr/>
              </p:nvSpPr>
              <p:spPr>
                <a:xfrm>
                  <a:off x="1821600" y="3491640"/>
                  <a:ext cx="2402280" cy="88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13" name="Group 47"/>
              <p:cNvGrpSpPr/>
              <p:nvPr/>
            </p:nvGrpSpPr>
            <p:grpSpPr>
              <a:xfrm>
                <a:off x="4223880" y="3491640"/>
                <a:ext cx="2401920" cy="888120"/>
                <a:chOff x="4223880" y="3491640"/>
                <a:chExt cx="2401920" cy="888120"/>
              </a:xfrm>
            </p:grpSpPr>
            <p:sp>
              <p:nvSpPr>
                <p:cNvPr id="514" name="Rectangle 48"/>
                <p:cNvSpPr/>
                <p:nvPr/>
              </p:nvSpPr>
              <p:spPr>
                <a:xfrm>
                  <a:off x="4285440" y="3491640"/>
                  <a:ext cx="2278080" cy="88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n manifestaciones específicas. A veces, trastornos psicógen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15" name="Rectangle 49"/>
                <p:cNvSpPr/>
                <p:nvPr/>
              </p:nvSpPr>
              <p:spPr>
                <a:xfrm>
                  <a:off x="4223880" y="3491640"/>
                  <a:ext cx="2401920" cy="88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16" name="Group 50"/>
              <p:cNvGrpSpPr/>
              <p:nvPr/>
            </p:nvGrpSpPr>
            <p:grpSpPr>
              <a:xfrm>
                <a:off x="6626160" y="3491640"/>
                <a:ext cx="2298600" cy="888120"/>
                <a:chOff x="6626160" y="3491640"/>
                <a:chExt cx="2298600" cy="888120"/>
              </a:xfrm>
            </p:grpSpPr>
            <p:sp>
              <p:nvSpPr>
                <p:cNvPr id="517" name="Rectangle 51"/>
                <p:cNvSpPr/>
                <p:nvPr/>
              </p:nvSpPr>
              <p:spPr>
                <a:xfrm>
                  <a:off x="6687720" y="3491640"/>
                  <a:ext cx="2174760" cy="88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sicosis cannábica en sujetos predispuest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18" name="Rectangle 52"/>
                <p:cNvSpPr/>
                <p:nvPr/>
              </p:nvSpPr>
              <p:spPr>
                <a:xfrm>
                  <a:off x="6626160" y="3491640"/>
                  <a:ext cx="2298600" cy="88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19" name="Group 53"/>
              <p:cNvGrpSpPr/>
              <p:nvPr/>
            </p:nvGrpSpPr>
            <p:grpSpPr>
              <a:xfrm>
                <a:off x="289800" y="4379760"/>
                <a:ext cx="1531800" cy="888120"/>
                <a:chOff x="289800" y="4379760"/>
                <a:chExt cx="1531800" cy="888120"/>
              </a:xfrm>
            </p:grpSpPr>
            <p:sp>
              <p:nvSpPr>
                <p:cNvPr id="520" name="Rectangle 54"/>
                <p:cNvSpPr/>
                <p:nvPr/>
              </p:nvSpPr>
              <p:spPr>
                <a:xfrm>
                  <a:off x="351720" y="4379760"/>
                  <a:ext cx="1407960" cy="88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imulantes psicodislép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21" name="Rectangle 55"/>
                <p:cNvSpPr/>
                <p:nvPr/>
              </p:nvSpPr>
              <p:spPr>
                <a:xfrm>
                  <a:off x="289800" y="4379760"/>
                  <a:ext cx="1531800" cy="88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22" name="Group 56"/>
              <p:cNvGrpSpPr/>
              <p:nvPr/>
            </p:nvGrpSpPr>
            <p:grpSpPr>
              <a:xfrm>
                <a:off x="1821600" y="4379760"/>
                <a:ext cx="2402280" cy="888120"/>
                <a:chOff x="1821600" y="4379760"/>
                <a:chExt cx="2402280" cy="888120"/>
              </a:xfrm>
            </p:grpSpPr>
            <p:sp>
              <p:nvSpPr>
                <p:cNvPr id="523" name="Rectangle 57"/>
                <p:cNvSpPr/>
                <p:nvPr/>
              </p:nvSpPr>
              <p:spPr>
                <a:xfrm>
                  <a:off x="1883520" y="4379760"/>
                  <a:ext cx="2278080" cy="88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idriasis, agresividad, ansiedad, pánico, distorsión preceptiva, ilusiones, alucinaciones, crisis, depresion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24" name="Rectangle 58"/>
                <p:cNvSpPr/>
                <p:nvPr/>
              </p:nvSpPr>
              <p:spPr>
                <a:xfrm>
                  <a:off x="1821600" y="4379760"/>
                  <a:ext cx="2402280" cy="88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25" name="Group 59"/>
              <p:cNvGrpSpPr/>
              <p:nvPr/>
            </p:nvGrpSpPr>
            <p:grpSpPr>
              <a:xfrm>
                <a:off x="4223880" y="4379760"/>
                <a:ext cx="2401920" cy="888120"/>
                <a:chOff x="4223880" y="4379760"/>
                <a:chExt cx="2401920" cy="888120"/>
              </a:xfrm>
            </p:grpSpPr>
            <p:sp>
              <p:nvSpPr>
                <p:cNvPr id="526" name="Rectangle 60"/>
                <p:cNvSpPr/>
                <p:nvPr/>
              </p:nvSpPr>
              <p:spPr>
                <a:xfrm>
                  <a:off x="4285440" y="4379760"/>
                  <a:ext cx="2278080" cy="88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índrome psicótic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27" name="Rectangle 61"/>
                <p:cNvSpPr/>
                <p:nvPr/>
              </p:nvSpPr>
              <p:spPr>
                <a:xfrm>
                  <a:off x="4223880" y="4379760"/>
                  <a:ext cx="2401920" cy="88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28" name="Group 62"/>
              <p:cNvGrpSpPr/>
              <p:nvPr/>
            </p:nvGrpSpPr>
            <p:grpSpPr>
              <a:xfrm>
                <a:off x="6626160" y="4379760"/>
                <a:ext cx="2298600" cy="888120"/>
                <a:chOff x="6626160" y="4379760"/>
                <a:chExt cx="2298600" cy="888120"/>
              </a:xfrm>
            </p:grpSpPr>
            <p:sp>
              <p:nvSpPr>
                <p:cNvPr id="529" name="Rectangle 63"/>
                <p:cNvSpPr/>
                <p:nvPr/>
              </p:nvSpPr>
              <p:spPr>
                <a:xfrm>
                  <a:off x="6687720" y="4379760"/>
                  <a:ext cx="2174760" cy="88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sicosis que pueden llegar a ser crónica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30" name="Rectangle 64"/>
                <p:cNvSpPr/>
                <p:nvPr/>
              </p:nvSpPr>
              <p:spPr>
                <a:xfrm>
                  <a:off x="6626160" y="4379760"/>
                  <a:ext cx="2298600" cy="88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31" name="Group 65"/>
              <p:cNvGrpSpPr/>
              <p:nvPr/>
            </p:nvGrpSpPr>
            <p:grpSpPr>
              <a:xfrm>
                <a:off x="289800" y="5268240"/>
                <a:ext cx="1531800" cy="614880"/>
                <a:chOff x="289800" y="5268240"/>
                <a:chExt cx="1531800" cy="614880"/>
              </a:xfrm>
            </p:grpSpPr>
            <p:sp>
              <p:nvSpPr>
                <p:cNvPr id="532" name="Rectangle 66"/>
                <p:cNvSpPr/>
                <p:nvPr/>
              </p:nvSpPr>
              <p:spPr>
                <a:xfrm>
                  <a:off x="351720" y="5268240"/>
                  <a:ext cx="140796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ba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33" name="Rectangle 67"/>
                <p:cNvSpPr/>
                <p:nvPr/>
              </p:nvSpPr>
              <p:spPr>
                <a:xfrm>
                  <a:off x="289800" y="5268240"/>
                  <a:ext cx="153180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34" name="Group 68"/>
              <p:cNvGrpSpPr/>
              <p:nvPr/>
            </p:nvGrpSpPr>
            <p:grpSpPr>
              <a:xfrm>
                <a:off x="1821600" y="5268240"/>
                <a:ext cx="2402280" cy="614880"/>
                <a:chOff x="1821600" y="5268240"/>
                <a:chExt cx="2402280" cy="614880"/>
              </a:xfrm>
            </p:grpSpPr>
            <p:sp>
              <p:nvSpPr>
                <p:cNvPr id="535" name="Rectangle 69"/>
                <p:cNvSpPr/>
                <p:nvPr/>
              </p:nvSpPr>
              <p:spPr>
                <a:xfrm>
                  <a:off x="1883520" y="5268240"/>
                  <a:ext cx="227808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s, faringitis, cefalalg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36" name="Rectangle 70"/>
                <p:cNvSpPr/>
                <p:nvPr/>
              </p:nvSpPr>
              <p:spPr>
                <a:xfrm>
                  <a:off x="1821600" y="5268240"/>
                  <a:ext cx="240228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37" name="Group 71"/>
              <p:cNvGrpSpPr/>
              <p:nvPr/>
            </p:nvGrpSpPr>
            <p:grpSpPr>
              <a:xfrm>
                <a:off x="4223880" y="5268240"/>
                <a:ext cx="2401920" cy="614880"/>
                <a:chOff x="4223880" y="5268240"/>
                <a:chExt cx="2401920" cy="614880"/>
              </a:xfrm>
            </p:grpSpPr>
            <p:sp>
              <p:nvSpPr>
                <p:cNvPr id="538" name="Rectangle 72"/>
                <p:cNvSpPr/>
                <p:nvPr/>
              </p:nvSpPr>
              <p:spPr>
                <a:xfrm>
                  <a:off x="4285440" y="5268240"/>
                  <a:ext cx="227808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39" name="Rectangle 73"/>
                <p:cNvSpPr/>
                <p:nvPr/>
              </p:nvSpPr>
              <p:spPr>
                <a:xfrm>
                  <a:off x="4223880" y="5268240"/>
                  <a:ext cx="240192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40" name="Group 74"/>
              <p:cNvGrpSpPr/>
              <p:nvPr/>
            </p:nvGrpSpPr>
            <p:grpSpPr>
              <a:xfrm>
                <a:off x="6626160" y="5268240"/>
                <a:ext cx="2298600" cy="614880"/>
                <a:chOff x="6626160" y="5268240"/>
                <a:chExt cx="2298600" cy="614880"/>
              </a:xfrm>
            </p:grpSpPr>
            <p:sp>
              <p:nvSpPr>
                <p:cNvPr id="541" name="Rectangle 75"/>
                <p:cNvSpPr/>
                <p:nvPr/>
              </p:nvSpPr>
              <p:spPr>
                <a:xfrm>
                  <a:off x="6687720" y="5268240"/>
                  <a:ext cx="2174760" cy="61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blemas respiratorios y circulatori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42" name="Rectangle 76"/>
                <p:cNvSpPr/>
                <p:nvPr/>
              </p:nvSpPr>
              <p:spPr>
                <a:xfrm>
                  <a:off x="6626160" y="5268240"/>
                  <a:ext cx="2298600" cy="61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43" name="Group 77"/>
              <p:cNvGrpSpPr/>
              <p:nvPr/>
            </p:nvGrpSpPr>
            <p:grpSpPr>
              <a:xfrm>
                <a:off x="289800" y="5883120"/>
                <a:ext cx="1531800" cy="751320"/>
                <a:chOff x="289800" y="5883120"/>
                <a:chExt cx="1531800" cy="751320"/>
              </a:xfrm>
            </p:grpSpPr>
            <p:sp>
              <p:nvSpPr>
                <p:cNvPr id="544" name="Rectangle 78"/>
                <p:cNvSpPr/>
                <p:nvPr/>
              </p:nvSpPr>
              <p:spPr>
                <a:xfrm>
                  <a:off x="351720" y="5883120"/>
                  <a:ext cx="1407960" cy="75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solventes y pegamen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45" name="Rectangle 79"/>
                <p:cNvSpPr/>
                <p:nvPr/>
              </p:nvSpPr>
              <p:spPr>
                <a:xfrm>
                  <a:off x="289800" y="5883120"/>
                  <a:ext cx="1531800" cy="75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46" name="Group 80"/>
              <p:cNvGrpSpPr/>
              <p:nvPr/>
            </p:nvGrpSpPr>
            <p:grpSpPr>
              <a:xfrm>
                <a:off x="1821600" y="5883120"/>
                <a:ext cx="2402280" cy="751320"/>
                <a:chOff x="1821600" y="5883120"/>
                <a:chExt cx="2402280" cy="751320"/>
              </a:xfrm>
            </p:grpSpPr>
            <p:sp>
              <p:nvSpPr>
                <p:cNvPr id="547" name="Rectangle 81"/>
                <p:cNvSpPr/>
                <p:nvPr/>
              </p:nvSpPr>
              <p:spPr>
                <a:xfrm>
                  <a:off x="1883520" y="5883120"/>
                  <a:ext cx="2278080" cy="75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mbriaguez, ilusiones, visión doble, depresión respiratoria, riesgo de sofoc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48" name="Rectangle 82"/>
                <p:cNvSpPr/>
                <p:nvPr/>
              </p:nvSpPr>
              <p:spPr>
                <a:xfrm>
                  <a:off x="1821600" y="5883120"/>
                  <a:ext cx="2402280" cy="75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49" name="Group 83"/>
              <p:cNvGrpSpPr/>
              <p:nvPr/>
            </p:nvGrpSpPr>
            <p:grpSpPr>
              <a:xfrm>
                <a:off x="4223880" y="5883120"/>
                <a:ext cx="2401920" cy="751320"/>
                <a:chOff x="4223880" y="5883120"/>
                <a:chExt cx="2401920" cy="751320"/>
              </a:xfrm>
            </p:grpSpPr>
            <p:sp>
              <p:nvSpPr>
                <p:cNvPr id="550" name="Rectangle 84"/>
                <p:cNvSpPr/>
                <p:nvPr/>
              </p:nvSpPr>
              <p:spPr>
                <a:xfrm>
                  <a:off x="4285440" y="5883120"/>
                  <a:ext cx="2278080" cy="75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n signos específic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51" name="Rectangle 85"/>
                <p:cNvSpPr/>
                <p:nvPr/>
              </p:nvSpPr>
              <p:spPr>
                <a:xfrm>
                  <a:off x="4223880" y="5883120"/>
                  <a:ext cx="2401920" cy="75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552" name="Group 86"/>
              <p:cNvGrpSpPr/>
              <p:nvPr/>
            </p:nvGrpSpPr>
            <p:grpSpPr>
              <a:xfrm>
                <a:off x="6626160" y="5883120"/>
                <a:ext cx="2298600" cy="751320"/>
                <a:chOff x="6626160" y="5883120"/>
                <a:chExt cx="2298600" cy="751320"/>
              </a:xfrm>
            </p:grpSpPr>
            <p:sp>
              <p:nvSpPr>
                <p:cNvPr id="553" name="Rectangle 87"/>
                <p:cNvSpPr/>
                <p:nvPr/>
              </p:nvSpPr>
              <p:spPr>
                <a:xfrm>
                  <a:off x="6687720" y="5883120"/>
                  <a:ext cx="2174760" cy="75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siones hepáticas, renales y hemática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  <p:sp>
              <p:nvSpPr>
                <p:cNvPr id="554" name="Rectangle 88"/>
                <p:cNvSpPr/>
                <p:nvPr/>
              </p:nvSpPr>
              <p:spPr>
                <a:xfrm>
                  <a:off x="6626160" y="5883120"/>
                  <a:ext cx="2298600" cy="75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sp>
          <p:nvSpPr>
            <p:cNvPr id="555" name="Rectangle 89"/>
            <p:cNvSpPr/>
            <p:nvPr/>
          </p:nvSpPr>
          <p:spPr>
            <a:xfrm>
              <a:off x="285840" y="1643040"/>
              <a:ext cx="8643960" cy="499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1) DESMAY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ado de malestar repentino, con pérdida parcial o total de conocimiento, que dura solo unos minut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curre cuando no llega suficiente sangre al cerebro durante un periodo corto de tiemp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Causa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emociones fuertes (temor, alegría…), aire viciado en sitio cerrado, ayuno prolongado, dolor, fatiga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ñales: debilidad repentina, palidez, sudoración fría, visión borrosa, inconsciencia, caída súbita, respiración superficial, pulso débi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1) DESMAY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599840"/>
            <a:ext cx="81532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TUACIÓ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ntener la permeabilidad de la vía aérea y asegúrese de que respir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flojar la ropa para facilitarle la respiración y coloque a la víctima en un lugar con buena ventilació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cirle que respire profúndamen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umbarle en posición horizontal sobre su espalda, piernas a 45º (facilita el retorno sanguíneo)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 dar de comer ni de beber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 la víctima vomit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→ PL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2) SÍNCOP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érdida total y repentina de la conscienci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usa: paro momentáneo del corazó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uede estar causado por una enfermedad cardíaca y por otros motivos de origen nervios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establecimiento de la circulación: 5 a 20 s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TUACIÓ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ntener la permeabilidad de la vía aérea y asegurarse de que respira y tiene puls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CP en caso necesari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 se mantienen las constantes vitales: como en lipotim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3) SHO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teración de la circulación que ocasiona una inadecuada perfusión de los tejidos: lesión celular reversib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 se prolonga puede ser irreversible: necrosis (muerte de los tejido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 no es tratado: efectos morta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usas: pérdida de líquidos, hemorragias graves, quemaduras extensas, dolor, lesiones medulares, reacciones alérgicas, alteraciones del corazón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3) SHO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ÍNTOM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iel pálid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dor frí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ulso muy rápido: + de 100p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patía, desinteré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TAMIEN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aponar hemorragia si existies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ubrir al paciente y abrigarl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umbarlo y elevar piernas 45º (posición antishock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ntenerlo en reposo, traslado inmediat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alizar labores de reanimación (si fuese necesario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4) COM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érdida de consciencia prolongad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TAMIENTO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ntener la permeabilidad de la vía aérea y asegurarse de que respir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iciar RCP en caso necesari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 se mantienen las constantes vitales: PL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vitar pérdida de calor de la víctim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Vigilar las constantes vitales hasta su traslad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75f55"/>
                </a:solidFill>
                <a:latin typeface="Tw Cen MT"/>
              </a:rPr>
              <a:t>5) ACCIDENTES CEREBRO VASCULAR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érdida brusca de conocimiento, dificultades respiratorias, parálisis de miembros, torcedura de boca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TAMIENT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locar al herido tumbad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valuar sus constante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rasladarlo a un centro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6:21:15Z</dcterms:created>
  <dc:creator>ITZIAR</dc:creator>
  <dc:description/>
  <dc:language>en-US</dc:language>
  <cp:lastModifiedBy>ITZIAR</cp:lastModifiedBy>
  <dcterms:modified xsi:type="dcterms:W3CDTF">2009-02-02T18:06:42Z</dcterms:modified>
  <cp:revision>10</cp:revision>
  <dc:subject/>
  <dc:title>ALTERACIONES DE LA CONSCIENCIA</dc:title>
</cp:coreProperties>
</file>