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599-4B9C-4682-B8C7-DFD83550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48B-9E40-4E72-8F92-AF6D5BC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0BF-B826-4B22-9A91-1A484D38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4DB-0CB3-4A3F-B9E8-EACA2AF4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51A0-A3FE-47ED-A75A-3364390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C03C-0370-4CB9-B5A0-017640D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1102-FF06-41E8-BBED-F21ABC69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1BFD-9B0A-4203-ABB7-5658BA5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8D8B-6142-4D38-A185-58AEA125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887E-35FF-4EC5-B97A-0176A72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A62-CC70-41B1-A8BE-EF2C026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93D-1DC4-4E3E-BBDA-B105499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228B-A37E-4636-A0A5-4BC58F2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A014-AAC5-467A-8954-59F1D2B4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730-2493-481D-A534-21A485E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4000-FA1A-4A92-B5D6-B159A418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4EC5-C38D-495C-A12A-5ACB58B3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559D3-1C3E-4AE6-A4D1-A533D3E1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2D529-98E2-443E-8713-A850EEB5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708D6-1EEB-4D40-B400-18FA742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A703F-A112-4F34-9E6F-852EB1CF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7B0BA-BCEC-4AD4-947F-06C06225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FD2-1918-4DF6-9526-7510A29F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9BE52-BAA2-4C2A-819C-9144FD52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6F89C-47C3-4A11-B717-4289B11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29B4D-8A58-4717-8F5C-AB6080E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E9978-1D74-41E3-BCD8-FB4BC75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9EF60-BE9D-42D4-ABC4-EA08DA3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94072-3B65-42C9-B5F9-AD1992B6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B2662-EFE2-4642-B95B-EC94C4FB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E9BED-04FA-4397-887A-46C5B92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A4EEA-AF2F-4F49-A6D6-16CACBC9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44281-2BD5-456C-AAC5-67839D1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B61-4720-462B-9395-56FEB30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51D6C-C2A1-4F46-A8DB-C46E3B0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D0EB1-CCAB-4812-9616-1811930E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CF1A8-4A1B-440A-9139-528E2F3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E72CB-5F29-4C59-AAF3-6887862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210F0-4117-4735-9305-340C414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B5D5C-9939-418F-BA23-04DF2D3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DF22C-7C4B-443D-AE9C-59935B27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0C245-2F0A-490C-BA7E-BC000C1A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979A0-F529-4F8D-9BF7-276BB2EF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7FA5F-B3DF-475A-8CD7-12DB826C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E6F-CA09-4FF3-BEFD-29C45BA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5F755-465E-450E-ABBE-F3C7D7F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2EDF5-4ECE-416E-BB49-C1AAFA4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4DE69-A635-47BC-888B-7ECE971B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A91DF-8A28-43ED-9F37-E231E87A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FD4F1-26F1-4534-8C4A-7197D00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FB535-1915-4EF9-A816-1CD653C3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4ACE2-5329-4EBE-8FA8-E2874CF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E9017-835E-4222-8037-EF58EFB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D0CC8-A229-4816-B9C7-038474F5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B3A93-B7DB-4D30-9E7D-5C52C66E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24D-FC80-4BD5-9BA5-12A79A39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5131F-CF5D-46AF-88F2-164780DD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E4E4A-BB7C-434B-B051-B31899D5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2F76F-F9C0-4142-BA97-491F715D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98408-A107-4549-9171-9C4900D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DA5B-FF0A-4A41-A281-837B60F3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EADF-3071-42F7-B67F-ECA791A1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24CEF-22A8-4C54-B756-56A9F3AA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80FC4-B38D-4B49-AD2B-6EE64279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F61D-E825-45B3-B0DE-941967A0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BD419-EC73-4E96-B903-10B2D16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8A0-5E0A-4767-A7D5-DD2D298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85BC-1518-4CE7-9BE7-FAB8B59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13668-1594-415C-AE78-AC95063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562B-4F61-4C13-A5F5-C1A5C34C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1D01D-7CA5-4FBB-9F2D-2A10D8B7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9249C-19F9-42D3-9F13-F4115032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3B840-72EF-4F9A-94DD-79775A2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83814-D39A-4ED8-8D33-A51C321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13B0D-9176-43E5-90AA-0C3C295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36DBF-767C-4E69-BEFE-123D1C1A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FAB85-00B2-4A6E-8B05-48E95D8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132-E0F2-4691-9790-0FF1682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620C6-8FB9-4DDD-8CBC-4DC064F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B1CE2-ECF5-493F-9398-F566755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17562-C5E7-4882-8C25-6655425E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82F9B-E553-4D40-AA63-8C8E2921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98ED4-4708-4E8A-B23D-E1068E1E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FCE18-0E5A-4262-9072-FE3EAB9B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692F-1E71-4D85-A8F8-B5AF5B4B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103AB-C3D2-42B7-83EE-4796D319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15E8-F4FA-4614-9DB9-8ED0281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D55A-BECD-46F6-9857-08CD6820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1F9-68BB-4F04-872A-F3F6DF4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5251-0786-4101-95AB-3178603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785FE-7075-408A-9483-67ABA02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ED83A-4CFD-4F99-B63B-46FFEC1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49E7-B235-4958-B802-EB2CC12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E0E84-2682-4FAE-A0F6-C8C832B3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FB048-E8F5-4E37-A647-FC48D600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8A15D-48FF-4D68-BD73-E33E04CF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EEA4-8A40-4520-82C1-9CA7B33F2A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6AD3-BBBC-4D78-9417-CC03E101CD4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014-F42D-449D-926B-25E92FA6B7A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DDBF-4F4B-4781-AF12-99AC566D70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29A-D32E-4923-BABE-2B8F007382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A929-528E-4FBE-88DD-BAB3927E305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95DD-3595-4070-B420-FC05555BC69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EBA9-684F-456E-AADA-E0E43CC152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bddc3"/>
                </a:solidFill>
                <a:latin typeface="Tw Cen MT"/>
              </a:rPr>
              <a:t>BOTIQUÍN</a:t>
            </a:r>
            <a:endParaRPr b="0" lang="en-US" sz="8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OTIQUÍN BÁSIC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a dotación básica del botiquín de urgencia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mbú y bombona de oxígeno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ijera recta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ijera específica para cortar ropa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4 Pinzas clínicas de un solo uso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6 Pares de guantes de plástico estériles y desechables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aracetamol o ácido acetil salicílico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sparadrapo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tiinflamatorio tópico sin corticoides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OTIQUÍN BÁSIC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vidona yodada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6 Vendas elásticas 5 x 10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3 Vendas elásticas 5 x 5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sas estériles empaquetadas individualmente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pósitos de tul graso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godó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llarí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na tabla de columna rígida dotada con cinturones y otras sujeciones que permitan la inmovilización y traslado correcto de los lesionado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BOTIQUI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ATERIAL DE PRIMERAS CURA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AGUA OXIGENAD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ALCOHOL 96º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ALGODÓN  (ALCOLCHADO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AMONIACO ( REBAJADO 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BETADINE 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COMPRESAS ESTERILE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ESPARADRAPO ( TELA Y PAPEL 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GASAS ESTERILES Y NO ESTERILE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GUANTES DE LATEX O VINILO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VENDAS VARIOS TAMAÑOS (5X5- 5X7- 10X10) TIPO CREPE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SUERO FISIOLOGICO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PUNTOS DE APROXIMACION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JERINGAS DE ENTRE 2 A 5 ML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TIRITAS ( PAPEL CONTINUO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MATERIAL ESTE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BISTURI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DEPRESORES LINGUAL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SFINGOMANOMETR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MANTA TERMICA (TIPO SIRIUS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INZAS ( GRANDES Y PEQUEÑAS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RASURADOR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TERMOMETR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TIJER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TUBOS DE GUEDEL ( 1 – 3 – 5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OXIGENOTERAPIA Y MASCARILL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ULSIOSIMETR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SISTEMA DE TENSION ARTERI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POMADAS Y AEROSO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00080" y="1785960"/>
            <a:ext cx="76867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PISTAXO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FASTUM GE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SOLINITRINA SPRA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BETADINE GE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SYNALAR ESPU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THOMBOCI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VASEL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VENTOLIN INHALADO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TULGRASU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COMPRIMID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ORTA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UN SOCORRIST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w Cen MT"/>
              </a:rPr>
              <a:t>NO ESTA AUTORIZADO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 A DAR UN MEDICAMENTO A NINGUN PACIENTE, DEJAR QUE SEA EL PERSONAL SANITARIO (MEDICO O DUE) QUIEN LO PROPORCIO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SO SI EL MEDICAMENTO QUE ESTE EN EL BOTIQUIN LO REVISAREMOS POR FECHA DE CADUCIDA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6 Rectángulo"/>
          <p:cNvSpPr/>
          <p:nvPr/>
        </p:nvSpPr>
        <p:spPr>
          <a:xfrm>
            <a:off x="2928960" y="3214800"/>
            <a:ext cx="2786040" cy="150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ASPIR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CANIFITR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TERMANGI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NOLOTI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8:04:44Z</dcterms:created>
  <dc:creator>ITZIAR</dc:creator>
  <dc:description/>
  <dc:language>en-US</dc:language>
  <cp:lastModifiedBy>ITZIAR</cp:lastModifiedBy>
  <dcterms:modified xsi:type="dcterms:W3CDTF">2009-02-02T18:06:37Z</dcterms:modified>
  <cp:revision>1</cp:revision>
  <dc:subject/>
  <dc:title>BOTIQUÍN</dc:title>
</cp:coreProperties>
</file>